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0CA-1785-442F-AC2C-D82FF5419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2C7E-6FE5-4C0F-8653-C1C46898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F907-BE24-4303-896B-241AD5CA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E64A-0A0C-46FA-846E-150C9D03A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B9D2-5F6E-44F5-89F2-F1EB92CDC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tt-cn_template01_backgroun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icture 17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ftt-cn_template01_title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030480" y="4521240"/>
            <a:ext cx="5961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ION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sure two way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re is a simple image to serve as your final slide when you will be taking ques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Picture 1" descr="hands.png"/>
          <p:cNvPicPr/>
          <p:nvPr/>
        </p:nvPicPr>
        <p:blipFill>
          <a:blip r:embed="rId1"/>
          <a:srcRect l="2688" t="0" r="2688" b="0"/>
          <a:stretch/>
        </p:blipFill>
        <p:spPr>
          <a:xfrm>
            <a:off x="0" y="168912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QuestionMarks-02"/>
          <p:cNvPicPr/>
          <p:nvPr/>
        </p:nvPicPr>
        <p:blipFill>
          <a:blip r:embed="rId1"/>
          <a:stretch/>
        </p:blipFill>
        <p:spPr>
          <a:xfrm>
            <a:off x="152280" y="1346040"/>
            <a:ext cx="8839440" cy="5178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a great image for opening up a presentation for ques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Picture 3" descr="QNAGraphics-02"/>
          <p:cNvPicPr/>
          <p:nvPr/>
        </p:nvPicPr>
        <p:blipFill>
          <a:blip r:embed="rId2"/>
          <a:srcRect l="20220" t="24525" r="17646" b="35806"/>
          <a:stretch/>
        </p:blipFill>
        <p:spPr>
          <a:xfrm>
            <a:off x="2057400" y="2438280"/>
            <a:ext cx="51418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ftt-cn_template01_credits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685800" y="2819520"/>
            <a:ext cx="312408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t Fast Track Tools, we provide professional training, strategic coaching and one-of-a-kind tools to help you create presentations that put you on the fast track to success. Be sure to visit our site for lots of free advice, a gallery of presentations and information to help you learn how to communicate to w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85800" y="5249880"/>
            <a:ext cx="3048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ww.fas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@FastTrack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n@fast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275440" y="2971800"/>
            <a:ext cx="30477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roducing Cubicle Ninjas. We're a dedicated team of creative design and illustration warriors, and we'd like to be your one-stop marketing resource. Give us a call. We take your projects on like they're our own, so you can focus on doing what you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257800" y="5249880"/>
            <a:ext cx="3048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ww.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630) 940-63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llo@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029200" y="457200"/>
            <a:ext cx="3657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457200" y="457200"/>
            <a:ext cx="36910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3:31Z</dcterms:created>
  <dc:creator>Josh Farkas</dc:creator>
  <dc:description/>
  <dc:language>en-US</dc:language>
  <cp:lastModifiedBy>Ken Revenaugh</cp:lastModifiedBy>
  <dcterms:modified xsi:type="dcterms:W3CDTF">2011-09-17T09:36:58Z</dcterms:modified>
  <cp:revision>74</cp:revision>
  <dc:subject/>
  <dc:title>PowerPoint Presentation</dc:title>
</cp:coreProperties>
</file>